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10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D1D1-EB34-4025-B043-4ADCBE88C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34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240" y="4187160"/>
            <a:ext cx="8534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431C-62AB-4871-A99F-32C9E7E8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240" y="418716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01880" y="418716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0603-7E70-4F93-9BC7-F6ADF8C08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14000" y="160020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9400" y="160020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240" y="418716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14000" y="418716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9400" y="418716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F3F0-A5A6-4819-9C49-3081DCC7C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5BCB3-5FBA-4EB1-A2EA-814F15CAB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2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82EF-5719-4267-8442-D1AF0502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4FEC-AB3A-4762-BC67-1B17BB4F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164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4164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1CAE-9A32-41D6-BA8E-C0607E5E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6F46B-0F85-4704-A8A8-323BB344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2A3E-E4E8-4139-9419-D2DCBB34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4164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240" y="418716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8DEB-E0DE-402C-B907-7DA8F2BE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2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2932-77B1-47D7-A067-E9BD2B83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164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01880" y="418716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1837-E080-4366-9EFB-54C0FFCC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240" y="4187160"/>
            <a:ext cx="8534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7032-AD50-454D-8AD1-08EF5A7F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34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240" y="4187160"/>
            <a:ext cx="8534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3BA1-1BEF-44D8-96A5-9F5FCC56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240" y="418716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01880" y="418716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5608-2113-4152-BF78-92B061DDE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14000" y="160020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9400" y="160020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240" y="418716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14000" y="418716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9400" y="418716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52C2-FEB8-4043-B28A-E0E12AE3A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5404-7ABF-438B-A523-B89C09B9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164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4164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4ED5-2D58-474D-AEF8-7F022B9C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89BC-415F-4F55-A5EC-B3E19B2A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7F96-FB9E-4A76-9D04-9039DEFD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4164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240" y="418716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FC9E-551F-48EF-AC97-5666F6C5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164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01880" y="418716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51CB-92B6-4AF2-922A-1E11ADA9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240" y="4187160"/>
            <a:ext cx="8534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74D4-14EF-450B-BC5D-38F06D5E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781F-C828-4AB3-A960-11F3F3F14EB6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371600"/>
            <a:ext cx="5105520" cy="7632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6248520" y="0"/>
            <a:ext cx="2895480" cy="90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-841680"/>
            <a:ext cx="746748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3DFB-C39E-45C9-8B49-579AD0590456}" type="slidenum">
              <a:rPr b="0" lang="it-IT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895480"/>
            <a:ext cx="3343320" cy="12240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09680" y="601992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ffff"/>
                </a:solidFill>
                <a:latin typeface="Times New Roman"/>
              </a:rPr>
              <a:t>http://www.grandigiochi.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reare il clima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reare aspettativa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nunci, manife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izio solen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usica, voci stra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biti degli animato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Not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introduzioni non troppo lungh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il senso si deve capire indipendentemente dalla buona resa dell’impianto audio: sottolineare i passaggi-chiave, messaggio line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reare il clima…</a:t>
            </a:r>
            <a:br>
              <a:rPr sz="3600"/>
            </a:b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la storia introduttiva può essere: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un film esisten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un film girato dagli animatori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iù efficace e divertente, ma più impegnativ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ei personaggi che parlano dal viv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 lettura di un tes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una telefon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l ritrovamento di un’iscrizi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locandina" descr=""/>
          <p:cNvPicPr/>
          <p:nvPr/>
        </p:nvPicPr>
        <p:blipFill>
          <a:blip r:embed="rId2"/>
          <a:stretch/>
        </p:blipFill>
        <p:spPr>
          <a:xfrm>
            <a:off x="2333520" y="-90360"/>
            <a:ext cx="4476960" cy="70387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Tahoma"/>
              </a:rPr>
              <a:t>Titanic: la madre di Ros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serenaz" descr=""/>
          <p:cNvPicPr/>
          <p:nvPr/>
        </p:nvPicPr>
        <p:blipFill>
          <a:blip r:embed="rId2"/>
          <a:stretch/>
        </p:blipFill>
        <p:spPr>
          <a:xfrm>
            <a:off x="3425760" y="914400"/>
            <a:ext cx="4284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Tahoma"/>
              </a:rPr>
              <a:t>Titanic: il fidanzato di Ros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cristian1" descr=""/>
          <p:cNvPicPr/>
          <p:nvPr/>
        </p:nvPicPr>
        <p:blipFill>
          <a:blip r:embed="rId2"/>
          <a:stretch/>
        </p:blipFill>
        <p:spPr>
          <a:xfrm>
            <a:off x="1066680" y="800280"/>
            <a:ext cx="777240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Aggiungere delle</a:t>
            </a:r>
            <a:br>
              <a:rPr sz="4000"/>
            </a:b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“Porte Dimensionali”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ono elementi scenografici che aiutano a entrare nella dimensione del gioco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artire con poche cose facilmente reperibili… poi le idee vengono mentre si prepara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Ehi! E se mettessimo una…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ne ho una a casa!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oi bisogna mettere tutto in ordine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Aggiungere delle</a:t>
            </a:r>
            <a:br>
              <a:rPr sz="4000"/>
            </a:b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“Porte Dimensionali”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critte misterios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 geroglifici su pareti/ogget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ostri”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he fanno perdere pun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ersonagg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 cui chiedere informazio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mpar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andie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stoffe, ec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uch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ul terreno, impronte, scie, ec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ggetti misterios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us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Aggiungere delle</a:t>
            </a:r>
            <a:br>
              <a:rPr sz="4000"/>
            </a:b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“Porte Dimensionali”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Se il gioco o parte del gioco si svolge al chius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effetti di luce/macchina del fum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labirinti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(fatti con tavoli, tabelloni, stoffa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possibilità di svolgere il gioco al buio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, facendo girare i ragazzi con delle torcie elettriche (effetto assicurat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allagamen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Immedesimarsi…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ahoma"/>
              </a:rPr>
              <a:t>gli animatori diventano dei personagg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ahoma"/>
              </a:rPr>
              <a:t>anche i ragazzi con una loro identità</a:t>
            </a:r>
            <a:br>
              <a:rPr sz="3600"/>
            </a:br>
            <a:r>
              <a:rPr b="0" lang="it-IT" sz="3600" spc="-1" strike="noStrike">
                <a:solidFill>
                  <a:srgbClr val="ffffff"/>
                </a:solidFill>
                <a:latin typeface="Tahoma"/>
              </a:rPr>
              <a:t>(squadre speciali dell’FBI, team di archeologi, gruppi di ricercatori, ecc.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Il punto di partenza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artire tutti assieme da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una scritta/iscrizione misterios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una mapp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una prima domand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un foglio con la lista delle cose da trova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un foglio con tutte le domande/i quiz da risolve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Introduzion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Alcune idee per preparare giochi entusiasmanti, coinvolgenti, che lascino il segno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ono solo alcune… lavorando insieme con fantasia ne vengono fuori di tutti i colori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Lo svolgimento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er passare da una tappa all’altr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assici biglietti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corsi obbliga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birin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cce di gelatina, sassolini, ec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a mapp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tograf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 risposte dei personagg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Lo svolgimento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er passare da una tappa all’altr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’animatrice vestita da Fata Turchina che gira dando indicazio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duzione di iscrizioni/geroglifi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Anche per le modalità più semplici si può fare un po’ di cinema… ad es. “Bocca della verità” che riceve i bigliettini e sputa i nuov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Il foglio di viaggio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rve a tener traccia delle prove superat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zz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cci che ricostruiscono un va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mbri degli animato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glio su cui segnare le tapp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glio su cui annerire le risposte sbagliate, che alla fine compone un messagg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ggetti da ritrov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Il tesoro!!!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Dev’essere tangibile… può essere simbolico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cesta/baule pieno di caramel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un diamante/pietre prezio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una cassa di oggetti d’o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un’antica pergame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un’animatrice rapi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un oggetto misterio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un vaso M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242040" y="2895480"/>
            <a:ext cx="28764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Il tesoro!!!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a tavoletta con delle incisio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a cassetta da dissotterr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 sasso stra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a scheda elettron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 tastiera di un compu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 vecchio hard-dis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a bottiglietta strana (con pozion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Basta guardarsi attorno con occhi nuovi… e vedere chi la spara più grossa!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Gli elementi multimediali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rendono il gioc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ancora più interessante e avvincent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per i nostri ragazzi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ma attenzione a non voler esager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rischiando di diventare totalment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dipendenti da una macchina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ggiungere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ELEMENTI MULTIMEDIAL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8600" y="1905120"/>
            <a:ext cx="8915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Dobbiamo imparare a mixar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elementi multimediali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ffff"/>
                </a:solidFill>
                <a:latin typeface="Tahoma"/>
                <a:ea typeface="Times New Roman"/>
              </a:rPr>
              <a:t>(che ci daranno un sacco di lavoro per la preparazione!!!)</a:t>
            </a:r>
            <a:r>
              <a:rPr b="0" lang="it-IT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ad una buona animazione “tradizionale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ggiungere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ELEMENTI MULTIMEDIAL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Tahoma"/>
                <a:ea typeface="Times New Roman"/>
              </a:rPr>
              <a:t>IL FILMATO</a:t>
            </a:r>
            <a:r>
              <a:rPr b="0" lang="en-US" sz="3500" spc="-1" strike="noStrike">
                <a:solidFill>
                  <a:srgbClr val="ffffff"/>
                </a:solidFill>
                <a:latin typeface="Tahoma"/>
                <a:ea typeface="Times New Roman"/>
              </a:rPr>
              <a:t>: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Times New Roman"/>
              </a:rPr>
              <a:t>come avvio o conclusione del gioco,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Times New Roman"/>
              </a:rPr>
              <a:t>per inquadrare la situazione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Times New Roman"/>
              </a:rPr>
              <a:t>o per svelare la soluzione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Times New Roman"/>
              </a:rPr>
              <a:t>Una scenetta (comica, tragica),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Times New Roman"/>
              </a:rPr>
              <a:t>un cortometraggio (con i personaggi del gioco),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Times New Roman"/>
              </a:rPr>
              <a:t>un breve spezzone di film famoso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Times New Roman"/>
              </a:rPr>
              <a:t>a cui si ispira il gioco..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Times New Roman"/>
              </a:rPr>
              <a:t>Montaggio del filmato con musiche, voci fuori campo, scritte…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ggiungere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ELEMENTI MULTIMEDIALI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286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ggiungere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ELEMENTI MULTIMEDIAL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1600200"/>
            <a:ext cx="8915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ffffff"/>
                </a:solidFill>
                <a:latin typeface="Tahoma"/>
                <a:ea typeface="Times New Roman"/>
              </a:rPr>
              <a:t>REAL TV</a:t>
            </a:r>
            <a:r>
              <a:rPr b="0" lang="it-IT" sz="3500" spc="-1" strike="noStrike">
                <a:solidFill>
                  <a:srgbClr val="ffffff"/>
                </a:solidFill>
                <a:latin typeface="Tahoma"/>
                <a:ea typeface="Times New Roman"/>
              </a:rPr>
              <a:t>: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it-IT" sz="3500" spc="-1" strike="noStrike">
                <a:solidFill>
                  <a:srgbClr val="ffffff"/>
                </a:solidFill>
                <a:latin typeface="Tahoma"/>
                <a:ea typeface="Times New Roman"/>
              </a:rPr>
              <a:t>E’ un trucco inaspettato di grande effetto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it-IT" sz="3500" spc="-1" strike="noStrike">
                <a:solidFill>
                  <a:srgbClr val="ffffff"/>
                </a:solidFill>
                <a:latin typeface="Tahoma"/>
                <a:ea typeface="Times New Roman"/>
              </a:rPr>
              <a:t>Collegamenti in diretta con un altro  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ffffff"/>
                </a:solidFill>
                <a:latin typeface="Tahoma"/>
                <a:ea typeface="Times New Roman"/>
              </a:rPr>
              <a:t>   </a:t>
            </a:r>
            <a:r>
              <a:rPr b="0" lang="it-IT" sz="3500" spc="-1" strike="noStrike">
                <a:solidFill>
                  <a:srgbClr val="ffffff"/>
                </a:solidFill>
                <a:latin typeface="Tahoma"/>
                <a:ea typeface="Times New Roman"/>
              </a:rPr>
              <a:t>ambiente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it-IT" sz="3500" spc="-1" strike="noStrike">
                <a:solidFill>
                  <a:srgbClr val="ffffff"/>
                </a:solidFill>
                <a:latin typeface="Tahoma"/>
                <a:ea typeface="Times New Roman"/>
              </a:rPr>
              <a:t>Giallo poliziesco (per cercare gli indizi)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it-IT" sz="3500" spc="-1" strike="noStrike">
                <a:solidFill>
                  <a:srgbClr val="ffffff"/>
                </a:solidFill>
                <a:latin typeface="Tahoma"/>
                <a:ea typeface="Times New Roman"/>
              </a:rPr>
              <a:t>Intervista a personaggi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it-IT" sz="3500" spc="-1" strike="noStrike">
                <a:solidFill>
                  <a:srgbClr val="ffffff"/>
                </a:solidFill>
                <a:latin typeface="Tahoma"/>
                <a:ea typeface="Times New Roman"/>
              </a:rPr>
              <a:t>Inviato speciale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it-IT" sz="3500" spc="-1" strike="noStrike">
                <a:solidFill>
                  <a:srgbClr val="ffffff"/>
                </a:solidFill>
                <a:latin typeface="Tahoma"/>
                <a:ea typeface="Times New Roman"/>
              </a:rPr>
              <a:t>Candid Camera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286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ggiungere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ELEMENTI MULTIMEDIAL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1600200"/>
            <a:ext cx="8915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ffffff"/>
                </a:solidFill>
                <a:latin typeface="Tahoma"/>
                <a:ea typeface="Times New Roman"/>
              </a:rPr>
              <a:t>IL DIAPOMONTAGGIO</a:t>
            </a:r>
            <a:r>
              <a:rPr b="0" lang="it-IT" sz="3500" spc="-1" strike="noStrike">
                <a:solidFill>
                  <a:srgbClr val="ffffff"/>
                </a:solidFill>
                <a:latin typeface="Tahoma"/>
                <a:ea typeface="Times New Roman"/>
              </a:rPr>
              <a:t>: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it-IT" sz="3500" spc="-1" strike="noStrike">
                <a:solidFill>
                  <a:srgbClr val="ffffff"/>
                </a:solidFill>
                <a:latin typeface="Tahoma"/>
                <a:ea typeface="Times New Roman"/>
              </a:rPr>
              <a:t>Utilissimo il caro vecchio PowerPoint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it-IT" sz="3500" spc="-1" strike="noStrike">
                <a:solidFill>
                  <a:srgbClr val="ffffff"/>
                </a:solidFill>
                <a:latin typeface="Tahoma"/>
                <a:ea typeface="Times New Roman"/>
              </a:rPr>
              <a:t>Giochi a quiz, indovinelli, giochi da tabellone, sostegno a piccole prove…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it-IT" sz="3500" spc="-1" strike="noStrike">
                <a:solidFill>
                  <a:srgbClr val="ffffff"/>
                </a:solidFill>
                <a:latin typeface="Tahoma"/>
                <a:ea typeface="Times New Roman"/>
              </a:rPr>
              <a:t>Le diapositive aiutano gli animatori e tengono sveglia l’attenzione dei ragazzi.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Perché dei “grandi giochi”?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divertirsi e far diverti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far giocare i ragazzi… INSIE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farli conoscere tra di lo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far riscoprire il gusto del “far finta di essere…”; usare la fantas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far conoscere personaggi e situazioni “in prima persona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soddisfazione di preparare insieme qualcosa di bello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ggiungere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ELEMENTI MULTIMEDIAL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600200"/>
            <a:ext cx="8915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ffffff"/>
                </a:solidFill>
                <a:latin typeface="Tahoma"/>
                <a:ea typeface="Times New Roman"/>
              </a:rPr>
              <a:t>LA MUSICA DIGITALE</a:t>
            </a:r>
            <a:r>
              <a:rPr b="0" lang="it-IT" sz="3500" spc="-1" strike="noStrike">
                <a:solidFill>
                  <a:srgbClr val="ffffff"/>
                </a:solidFill>
                <a:latin typeface="Tahoma"/>
                <a:ea typeface="Times New Roman"/>
              </a:rPr>
              <a:t>: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ffffff"/>
                </a:solidFill>
                <a:latin typeface="Tahoma"/>
                <a:ea typeface="Times New Roman"/>
              </a:rPr>
              <a:t>Gioco musicale con MP3 che scarichiamo surfando in rete 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ffffff"/>
                </a:solidFill>
                <a:latin typeface="Tahoma"/>
                <a:ea typeface="Times New Roman"/>
              </a:rPr>
              <a:t>“</a:t>
            </a:r>
            <a:r>
              <a:rPr b="0" lang="it-IT" sz="3800" spc="-1" strike="noStrike">
                <a:solidFill>
                  <a:srgbClr val="ffffff"/>
                </a:solidFill>
                <a:latin typeface="Tahoma"/>
                <a:ea typeface="Times New Roman"/>
              </a:rPr>
              <a:t>Furore”, “Karaoke”…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286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ggiungere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ELEMENTI MULTIMEDIAL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1600200"/>
            <a:ext cx="8915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Tahoma"/>
                <a:ea typeface="Times New Roman"/>
              </a:rPr>
              <a:t>IL DESKTOP</a:t>
            </a:r>
            <a:r>
              <a:rPr b="0" lang="en-US" sz="3500" spc="-1" strike="noStrike">
                <a:solidFill>
                  <a:srgbClr val="ffffff"/>
                </a:solidFill>
                <a:latin typeface="Tahoma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  <a:ea typeface="Times New Roman"/>
              </a:rPr>
              <a:t>Immagine-logo del gioc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  <a:ea typeface="Times New Roman"/>
              </a:rPr>
              <a:t>Simboli delle squadre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  <a:ea typeface="Times New Roman"/>
              </a:rPr>
              <a:t>Sfondo per creare l’atmosfera 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  <a:ea typeface="Times New Roman"/>
              </a:rPr>
              <a:t>(in aggiunta alla scenografia classica)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286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ggiungere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ELEMENTI MULTIMEDIAL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1600200"/>
            <a:ext cx="8915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ffffff"/>
                </a:solidFill>
                <a:latin typeface="Tahoma"/>
                <a:ea typeface="Times New Roman"/>
              </a:rPr>
              <a:t>PAGINE HTML</a:t>
            </a:r>
            <a:r>
              <a:rPr b="0" lang="it-IT" sz="3500" spc="-1" strike="noStrike">
                <a:solidFill>
                  <a:srgbClr val="ffffff"/>
                </a:solidFill>
                <a:latin typeface="Tahoma"/>
                <a:ea typeface="Times New Roman"/>
              </a:rPr>
              <a:t>: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ffffff"/>
                </a:solidFill>
                <a:latin typeface="Tahoma"/>
                <a:ea typeface="Times New Roman"/>
              </a:rPr>
              <a:t>Gli ipertesti creano l’ossatura del gioco attraverso link che rimandano ad altre pagine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ffffff"/>
                </a:solidFill>
                <a:latin typeface="Tahoma"/>
                <a:ea typeface="Times New Roman"/>
              </a:rPr>
              <a:t>Il vecchio tabellone viene sostituito da una pagina interattiva che si modifica con l’avanzare del gioc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ffffff"/>
                </a:solidFill>
                <a:latin typeface="Tahoma"/>
                <a:ea typeface="Times New Roman"/>
              </a:rPr>
              <a:t>Battaglia navale, gioco dell’oc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286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ggiungere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ELEMENTI MULTIMEDIAL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1447920"/>
            <a:ext cx="8915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Tahoma"/>
                <a:ea typeface="Times New Roman"/>
              </a:rPr>
              <a:t>STORY GAME</a:t>
            </a:r>
            <a:r>
              <a:rPr b="0" lang="en-US" sz="3500" spc="-1" strike="noStrike">
                <a:solidFill>
                  <a:srgbClr val="ffffff"/>
                </a:solidFill>
                <a:latin typeface="Tahoma"/>
                <a:ea typeface="Times New Roman"/>
              </a:rPr>
              <a:t>: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ahoma"/>
                <a:ea typeface="Times New Roman"/>
              </a:rPr>
              <a:t>Gioco a stanze e story game: attraverso pagine di ipertesti si crea un gioco che prende continuamente nuove pieghe. 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ahoma"/>
                <a:ea typeface="Times New Roman"/>
              </a:rPr>
              <a:t>A seconda delle scelte o dei risultati di una prova, abbiamo una fase diversa del gioco (spaziale o temporale) che si evolve e arriva ad una soluzione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ahoma"/>
                <a:ea typeface="Times New Roman"/>
              </a:rPr>
              <a:t>Storia di Pinocchio…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286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ggiungere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ELEMENTI MULTIMEDIAL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1447920"/>
            <a:ext cx="8915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ffffff"/>
                </a:solidFill>
                <a:latin typeface="Tahoma"/>
                <a:ea typeface="Times New Roman"/>
              </a:rPr>
              <a:t>I CONTATORI</a:t>
            </a:r>
            <a:r>
              <a:rPr b="0" lang="it-IT" sz="3500" spc="-1" strike="noStrike">
                <a:solidFill>
                  <a:srgbClr val="ffffff"/>
                </a:solidFill>
                <a:latin typeface="Tahoma"/>
                <a:ea typeface="Times New Roman"/>
              </a:rPr>
              <a:t>: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700" spc="-1" strike="noStrike">
                <a:solidFill>
                  <a:srgbClr val="ffffff"/>
                </a:solidFill>
                <a:latin typeface="Tahoma"/>
                <a:ea typeface="Times New Roman"/>
              </a:rPr>
              <a:t>Visualizzatore di punteggio delle squadre, che viene proiettato durante il gioco e aggiornato in tempo reale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700" spc="-1" strike="noStrike">
                <a:solidFill>
                  <a:srgbClr val="ffffff"/>
                </a:solidFill>
                <a:latin typeface="Tahoma"/>
                <a:ea typeface="Times New Roman"/>
              </a:rPr>
              <a:t>Count down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700" spc="-1" strike="noStrike">
                <a:solidFill>
                  <a:srgbClr val="ffffff"/>
                </a:solidFill>
                <a:latin typeface="Tahoma"/>
                <a:ea typeface="Times New Roman"/>
              </a:rPr>
              <a:t>Encefalogramma del personaggio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Esempi di giochi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Finora abbiamo dato una serie di elementi generali… sono come dei mattoncini che combinati assieme possono generare un’infinità di giochi: sbrigliate la vostra fantasia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Vediamo qualche esempio concreto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Tahoma"/>
              </a:rPr>
              <a:t>1. LA MUMMIA DEL</a:t>
            </a:r>
            <a:br>
              <a:rPr sz="4400"/>
            </a:br>
            <a:r>
              <a:rPr b="0" lang="it-IT" sz="4400" spc="-1" strike="noStrike">
                <a:solidFill>
                  <a:srgbClr val="ffff00"/>
                </a:solidFill>
                <a:latin typeface="Tahoma"/>
              </a:rPr>
              <a:t>FARAONE APPASSITO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Tahoma"/>
              </a:rPr>
              <a:t>intro: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è stata trovata una mumm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Tahoma"/>
              </a:rPr>
              <a:t>personaggi: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faraone, mummia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Tahoma"/>
              </a:rPr>
              <a:t>scopo: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vogliamo risvegliar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Tahoma"/>
              </a:rPr>
              <a:t>svolgimento: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tradurre i geroglifici dentro un labiri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Tahoma"/>
              </a:rPr>
              <a:t>tesoro: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il risveglio della mumm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Tahoma"/>
              </a:rPr>
              <a:t>atmosfera: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musica orientale, incenso, labirinto, buio e torce elettrich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Tahoma"/>
              </a:rPr>
              <a:t>multimedia: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ECG, collegamento vide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391520" y="685800"/>
            <a:ext cx="1207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Tahoma"/>
              </a:rPr>
              <a:t>2. IL TESORO</a:t>
            </a:r>
            <a:br>
              <a:rPr sz="4400"/>
            </a:br>
            <a:r>
              <a:rPr b="0" lang="it-IT" sz="4400" spc="-1" strike="noStrike">
                <a:solidFill>
                  <a:srgbClr val="ffff00"/>
                </a:solidFill>
                <a:latin typeface="Tahoma"/>
              </a:rPr>
              <a:t>DELLA DEA KALI’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Tahoma"/>
              </a:rPr>
              <a:t>intro: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Gran Sacerdote sfida i ragazz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Tahoma"/>
              </a:rPr>
              <a:t>personaggi: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Sacerdote, sacerdotessa, stat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Tahoma"/>
              </a:rPr>
              <a:t>scopo: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impadronirsi del teso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Tahoma"/>
              </a:rPr>
              <a:t>svolgimento: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trovare i teschietti, passare indenni attraverso le statue, portar fuori il teso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Tahoma"/>
              </a:rPr>
              <a:t>tesoro: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bicchieri/piatti di plastica vernicia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Tahoma"/>
              </a:rPr>
              <a:t>atmosfera: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balletto, musica, parole stram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267680" y="685800"/>
            <a:ext cx="18763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Tahoma"/>
              </a:rPr>
              <a:t>3. TITANIC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Tahoma"/>
              </a:rPr>
              <a:t>intro: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filmino con parodia del “Titanic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Tahoma"/>
              </a:rPr>
              <a:t>personaggi: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Rose, Jack, ec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Tahoma"/>
              </a:rPr>
              <a:t>scopo: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ritrovare il “cuore dell’oceano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Tahoma"/>
              </a:rPr>
              <a:t>svolgimento: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entrano nella nave sommer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Tahoma"/>
              </a:rPr>
              <a:t>tesoro: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diamante (pendaglio lampadari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Tahoma"/>
              </a:rPr>
              <a:t>atmosfera: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fumo, luce blu, mobili rovesciati, pasta cruda sul pavimento, stanza allag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200400" y="0"/>
          <a:ext cx="2286000" cy="1812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0"/>
                    <a:ext cx="2286000" cy="18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Tahoma"/>
              </a:rPr>
              <a:t>4. GROBL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243792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Tahoma"/>
              </a:rPr>
              <a:t>intro: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un’astronave aliena si schian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Tahoma"/>
              </a:rPr>
              <a:t>personaggi: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scienziati, militari, giornalisti,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Tahoma"/>
              </a:rPr>
              <a:t>scopo: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ritrovare l’alie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Tahoma"/>
              </a:rPr>
              <a:t>svolgimento: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dall’astronave si segue la scia gelatinosa, si entra in un labirinto buio con alieno che spor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Tahoma"/>
              </a:rPr>
              <a:t>tesoro: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alieno in un blocco di ghiacc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505320" y="0"/>
          <a:ext cx="1452600" cy="2438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5320" y="0"/>
                    <a:ext cx="14526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Faremo della “Realtà Virtuale”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er immergere i ragazzi nella “realtà virtuale” dell’avventura proposta non avremo bisogno di caschi o tute speciali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asterà un po’ di fantasia e inventiva, come vedremo in seguito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Tahoma"/>
              </a:rPr>
              <a:t>5. IL MISTERO</a:t>
            </a:r>
            <a:br>
              <a:rPr sz="4400"/>
            </a:br>
            <a:r>
              <a:rPr b="0" lang="it-IT" sz="4400" spc="-1" strike="noStrike">
                <a:solidFill>
                  <a:srgbClr val="ffff00"/>
                </a:solidFill>
                <a:latin typeface="Tahoma"/>
              </a:rPr>
              <a:t>DEL SIGNOR FYODR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66"/>
                </a:solidFill>
                <a:latin typeface="Tahoma"/>
              </a:rPr>
              <a:t>intro: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l’anziano sig. Fyodr scappa nel bosco col suo tesoro, ma al momento di donarlo non ricorda più dove possa esse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66"/>
                </a:solidFill>
                <a:latin typeface="Tahoma"/>
              </a:rPr>
              <a:t>personaggi:</a:t>
            </a:r>
            <a:r>
              <a:rPr b="1" lang="it-IT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sig. Fyodr, presidentessa Croce Rossa Internazionale, un folletto dispett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66"/>
                </a:solidFill>
                <a:latin typeface="Tahoma"/>
              </a:rPr>
              <a:t>scopo: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ritrovare il teso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66"/>
                </a:solidFill>
                <a:latin typeface="Tahoma"/>
              </a:rPr>
              <a:t>svolgimento: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si parte dalla casa del sig. Fyodr, spunta un folletto con la mappa: bisogna beccarlo, quindi seguire la mappa fino al teso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66"/>
                </a:solidFill>
                <a:latin typeface="Tahoma"/>
              </a:rPr>
              <a:t>tesoro: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una cassa piena di caramel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66"/>
                </a:solidFill>
                <a:latin typeface="Tahoma"/>
              </a:rPr>
              <a:t>atmosfera: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vestiti, casa, oggetti antichi, mapp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562720" y="304920"/>
          <a:ext cx="1307880" cy="133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62720" y="304920"/>
                    <a:ext cx="1307880" cy="13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Tahoma"/>
              </a:rPr>
              <a:t>6. COSPES</a:t>
            </a:r>
            <a:br>
              <a:rPr sz="4400"/>
            </a:br>
            <a:r>
              <a:rPr b="0" lang="it-IT" sz="4400" spc="-1" strike="noStrike">
                <a:solidFill>
                  <a:srgbClr val="ffff00"/>
                </a:solidFill>
                <a:latin typeface="Tahoma"/>
              </a:rPr>
              <a:t>La creatura della nott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Tahoma"/>
              </a:rPr>
              <a:t>intro: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filmino con mostro che gi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Tahoma"/>
              </a:rPr>
              <a:t>personaggi: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mostro, allevatore, vitti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Tahoma"/>
              </a:rPr>
              <a:t>scopo: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capire chi alleva il most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Tahoma"/>
              </a:rPr>
              <a:t>svolgimento: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si danno indicazioni all’inviato sul luogo del delitto, per cercare indiz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Tahoma"/>
              </a:rPr>
              <a:t>tesoro: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  <a:ea typeface="Tahoma"/>
              </a:rPr>
              <a:t>scoprire il colpevo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Tahoma"/>
              </a:rPr>
              <a:t>atmosfera: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  <a:ea typeface="Tahoma"/>
              </a:rPr>
              <a:t>musica misterio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Tahoma"/>
              </a:rPr>
              <a:t>multimedia: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  <a:ea typeface="Tahoma"/>
              </a:rPr>
              <a:t>collegamento audio-vide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7086600" y="1295280"/>
          <a:ext cx="1876320" cy="76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86600" y="1295280"/>
                    <a:ext cx="187632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ostruiamo insieme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un grande gioco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ahoma"/>
              </a:rPr>
              <a:t>Ci divideremo in tre grupp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ahoma"/>
              </a:rPr>
              <a:t>Ogni gruppo preparerà un gioco sul tema “PINOCCHIO” (o altro se non viene in mente niente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ahoma"/>
              </a:rPr>
              <a:t>Ogni gioco dovrà essere presentato davanti a tutti, anche con una piccola scenetta introduttiva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it-IT" sz="3600" spc="-1" strike="noStrike">
                <a:solidFill>
                  <a:srgbClr val="ffffff"/>
                </a:solidFill>
                <a:latin typeface="Tahoma"/>
              </a:rPr>
              <a:t>poi si spiegherà lo svolgiment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ostruiamo insieme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un grande gioco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cc99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i cosa vogliamo parlare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cc99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Quali sono i personaggi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cc99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Quali antefatti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cc99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l titolo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cc99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Qual è lo scopo del gioco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cc99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ove si svolgerà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cc99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hi” fa “cosa”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ostruiamo insieme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un grande gioco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cc99ff"/>
              </a:buClr>
              <a:buSzPct val="8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 ragazzi chi rappresentano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cc99ff"/>
              </a:buClr>
              <a:buSzPct val="8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l punto di partenza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cc99ff"/>
              </a:buClr>
              <a:buSzPct val="8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 svolgimento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cc99ff"/>
              </a:buClr>
              <a:buSzPct val="8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l tesoro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cc99ff"/>
              </a:buClr>
              <a:buSzPct val="8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lementi per creare atmosfera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cc99ff"/>
              </a:buClr>
              <a:buSzPct val="8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lementi multimediali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Tahoma"/>
              </a:rPr>
              <a:t>Siti utili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240" y="2819160"/>
            <a:ext cx="85345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Tahoma"/>
              </a:rPr>
              <a:t>http://www.grest.i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Tahoma"/>
              </a:rPr>
              <a:t>http://www.grandigiochi.it</a:t>
            </a:r>
            <a:br>
              <a:rPr sz="4000"/>
            </a:br>
            <a:r>
              <a:rPr b="0" i="1" lang="it-IT" sz="3200" spc="-1" strike="noStrike">
                <a:solidFill>
                  <a:srgbClr val="ffffff"/>
                </a:solidFill>
                <a:latin typeface="Tahoma"/>
              </a:rPr>
              <a:t>(in futur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Tahoma"/>
              </a:rPr>
              <a:t>http://www.qumran2.ne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Tahoma"/>
              </a:rPr>
              <a:t>http://www.donboscoland.i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realtà virtuale” significa…</a:t>
            </a:r>
            <a:br>
              <a:rPr sz="4000"/>
            </a:b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oinvolgere tutti i sensi: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udito: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con musiche, suoni, lingue strane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vista: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scenografie, vestiti, disegni, scritte strane, luci, buio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atto: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camminare, esplorare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olfatto/gusto: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“assaggi” di sostanze strane, dolcetti, intrugli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realtà virtuale” significa…</a:t>
            </a:r>
            <a:br>
              <a:rPr sz="4000"/>
            </a:b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risvegliare i sentimenti: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mpegn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ecision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ioi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aura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… perché no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rabbia/disgusto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(contro i personaggi cattivi del gioco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ffetto/ammirazion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(per i personaggi buoni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Le “Cacce al Tesoro”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ahoma"/>
              </a:rPr>
              <a:t>si tratta di solito di seguire un percorso fatto di varie tappe/prove, fino alla meta fina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ahoma"/>
              </a:rPr>
              <a:t>spesso prove/tappe scollegat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ahoma"/>
              </a:rPr>
              <a:t>I ragazzi si divertono ma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ahoma"/>
              </a:rPr>
              <a:t>SI PUO’ FARE DI PIU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ggiungere un’ambientazion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ahoma"/>
              </a:rPr>
              <a:t>Si tratta di aggiungere elementi che ai fini pratici sono irrilevanti, ma che contribuiscono a rendere più interessante il gioco… </a:t>
            </a:r>
            <a:r>
              <a:rPr b="1" lang="it-IT" sz="3600" spc="-1" strike="noStrike">
                <a:solidFill>
                  <a:srgbClr val="ffffff"/>
                </a:solidFill>
                <a:latin typeface="Tahoma"/>
              </a:rPr>
              <a:t>la gioia di parteciparvi è raddoppiata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it-IT" sz="3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it-IT" sz="3600" spc="-1" strike="noStrike">
                <a:solidFill>
                  <a:srgbClr val="ffffff"/>
                </a:solidFill>
                <a:latin typeface="Tahoma"/>
              </a:rPr>
              <a:t>Se è una delicata operazione dell’FBI gioco anch’io!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ggiungere un’ambientazion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un titolo: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meglio se altisonante, magari in una lingua stranier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una storia introduttiva: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si raccontano gli antefatti, l’ambientazione… può anche essere un film già esistent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o scopo: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trovare un tesoro, scoprire un mistero, trovare il colpevole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5:08:39Z</dcterms:created>
  <dc:creator>don Bosco</dc:creator>
  <dc:description/>
  <dc:language>en-US</dc:language>
  <cp:lastModifiedBy>don Bosco</cp:lastModifiedBy>
  <dcterms:modified xsi:type="dcterms:W3CDTF">2003-05-20T08:58:58Z</dcterms:modified>
  <cp:revision>26</cp:revision>
  <dc:subject/>
  <dc:title>GRANDI GIOCHI</dc:title>
</cp:coreProperties>
</file>